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6A6-C0AF-4B2E-A71C-5686CB48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B21-CD70-4892-8AB0-37017F9B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ADF-0EBC-4B65-97CA-C0F3F629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8F1-E971-436C-B37B-B0EC859C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D84-BEF5-4A37-BF40-1CB37914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7D8-3EA1-417D-B15B-F75963E9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1AD-8BB6-4594-825A-B875BB48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077-6598-4045-A0DB-FF1D2DAA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098-79C9-4B07-95F1-F7FF26BD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71C-9557-408E-B43A-6F19079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5DB-6211-4311-ACC7-11DFA75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8D2-410D-4537-9CAE-30854A7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01E6-C073-4E9A-A5CC-83321AC3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56386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gital Phot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60352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2387880" cy="2427120"/>
          </a:xfrm>
          <a:prstGeom prst="rect">
            <a:avLst/>
          </a:prstGeom>
          <a:ln w="0">
            <a:noFill/>
          </a:ln>
        </p:spPr>
      </p:pic>
      <p:sp>
        <p:nvSpPr>
          <p:cNvPr id="44" name="Photo"/>
          <p:cNvSpPr/>
          <p:nvPr/>
        </p:nvSpPr>
        <p:spPr>
          <a:xfrm>
            <a:off x="5715000" y="7621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312408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as a digital file on a comp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isplayed, printed, stored using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asily transmitted to other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 can be edited on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8380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Phot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26240" y="30492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5848200" cy="296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304920"/>
            <a:ext cx="58676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images are made up of small squares, just like a tile mosaic on your kitchen or bathroom wall (pixels). Though a digital photograph looks smooth and continuous just like a regular photograph, it's actually composed of millions of tiny squares as shown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iting Phot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Eye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/ Crop / Re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Brightness /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1511280"/>
            <a:ext cx="5715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03040"/>
            <a:ext cx="3886200" cy="248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676680" cy="24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243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695760" cy="246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9052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66880" y="358128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3:32:45Z</dcterms:created>
  <dc:creator>Patrick J. Mooney</dc:creator>
  <dc:description/>
  <dc:language>en-US</dc:language>
  <cp:lastModifiedBy>Patrick J. Mooney</cp:lastModifiedBy>
  <dcterms:modified xsi:type="dcterms:W3CDTF">2010-09-30T04:14:51Z</dcterms:modified>
  <cp:revision>5</cp:revision>
  <dc:subject/>
  <dc:title>Digital Photography</dc:title>
</cp:coreProperties>
</file>